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12BFB-4CF4-4526-B757-8A35F03EB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C4533-ECDD-4E9F-9C61-A8DEB657D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3C9A9-46A6-481C-8AFE-091790962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373D0-45B4-40FA-B779-9E4A04429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F865A-DE46-4750-814F-8DE786E70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09D6D-47EE-4DE4-83E3-5CC90E239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630C7-D357-4D66-A27A-6C8182407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66278-6F45-47D4-8D88-C566B15DD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03AD8-8341-4E6E-B7F5-351174344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D4267-3F54-4574-AB71-13CC31760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0C1DB-462B-4D3C-A0C0-4062B24D6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DF562-C875-4F35-A68F-D78727D0E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73AD6A-73FC-4744-874F-6FF531A365A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7EF374-9B15-462A-81A6-9C9ED4F430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 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Calibri"/>
              </a:rPr>
              <a:t>What kind of simple machine is pictured in the diagram?</a:t>
            </a:r>
            <a:endParaRPr b="0" lang="en-US" sz="5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875200" y="3622680"/>
            <a:ext cx="3067200" cy="28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rainP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nticipatory Se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Calibri"/>
              <a:buAutoNum type="arabicParenR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o now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Calibri"/>
              <a:buAutoNum type="arabicParenR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emonstration – inclined plan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Not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Calibri"/>
              <a:buAutoNum type="arabicParenR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emonstration – lev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Calibri"/>
              <a:buAutoNum type="arabicParenR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emonstration – pulle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Brainpop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uided Practic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dependent Practic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losin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alibri"/>
              </a:rPr>
              <a:t>7.6 Lever and Pulley Class No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ev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998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Calibri"/>
              </a:rPr>
              <a:t>Lever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Calibri"/>
              </a:rPr>
              <a:t>First class lever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Calibri"/>
              </a:rPr>
              <a:t>Change the direction of your forc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Calibri"/>
              </a:rPr>
              <a:t>Increase the distance you mov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Calibri"/>
              </a:rPr>
              <a:t>Decrease the force you us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5" descr=""/>
          <p:cNvPicPr/>
          <p:nvPr/>
        </p:nvPicPr>
        <p:blipFill>
          <a:blip r:embed="rId1"/>
          <a:stretch/>
        </p:blipFill>
        <p:spPr>
          <a:xfrm>
            <a:off x="2649600" y="0"/>
            <a:ext cx="649440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ev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Calibri"/>
              </a:rPr>
              <a:t>Second-class levers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Calibri"/>
              </a:rPr>
              <a:t>Increase the distance you mov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Calibri"/>
              </a:rPr>
              <a:t>Decrease the force you us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5" descr=""/>
          <p:cNvPicPr/>
          <p:nvPr/>
        </p:nvPicPr>
        <p:blipFill>
          <a:blip r:embed="rId1"/>
          <a:stretch/>
        </p:blipFill>
        <p:spPr>
          <a:xfrm>
            <a:off x="190440" y="3906720"/>
            <a:ext cx="7832880" cy="29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ev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Calibri"/>
              </a:rPr>
              <a:t>Third-class levers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Calibri"/>
              </a:rPr>
              <a:t>Decrease the distance you move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Calibri"/>
              </a:rPr>
              <a:t>Increase the force you us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4" descr=""/>
          <p:cNvPicPr/>
          <p:nvPr/>
        </p:nvPicPr>
        <p:blipFill>
          <a:blip r:embed="rId1"/>
          <a:stretch/>
        </p:blipFill>
        <p:spPr>
          <a:xfrm>
            <a:off x="190440" y="3797280"/>
            <a:ext cx="8158320" cy="307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ulley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6840" y="1600200"/>
            <a:ext cx="6527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Calibri"/>
              </a:rPr>
              <a:t>Pulley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Calibri"/>
              </a:rPr>
              <a:t>A fixed pulley changes the direction of the force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3" descr=""/>
          <p:cNvPicPr/>
          <p:nvPr/>
        </p:nvPicPr>
        <p:blipFill>
          <a:blip r:embed="rId1"/>
          <a:stretch/>
        </p:blipFill>
        <p:spPr>
          <a:xfrm>
            <a:off x="6985080" y="2890800"/>
            <a:ext cx="2158920" cy="37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ulley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Calibri"/>
              </a:rPr>
              <a:t>A moveable pulley decreases the force you use and increases the distance you mov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3" descr=""/>
          <p:cNvPicPr/>
          <p:nvPr/>
        </p:nvPicPr>
        <p:blipFill>
          <a:blip r:embed="rId1"/>
          <a:stretch/>
        </p:blipFill>
        <p:spPr>
          <a:xfrm>
            <a:off x="6146640" y="2979720"/>
            <a:ext cx="254016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ulley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Calibri"/>
              </a:rPr>
              <a:t>A block and tackle decreases the force you use and increases the distance you move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3" descr=""/>
          <p:cNvPicPr/>
          <p:nvPr/>
        </p:nvPicPr>
        <p:blipFill>
          <a:blip r:embed="rId1"/>
          <a:stretch/>
        </p:blipFill>
        <p:spPr>
          <a:xfrm>
            <a:off x="5570640" y="2957400"/>
            <a:ext cx="2454120" cy="39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7T16:30:10Z</dcterms:created>
  <dc:creator>Caroline Roth</dc:creator>
  <dc:description/>
  <dc:language>en-US</dc:language>
  <cp:lastModifiedBy>Caroline Roth</cp:lastModifiedBy>
  <dcterms:modified xsi:type="dcterms:W3CDTF">2011-02-27T20:19:32Z</dcterms:modified>
  <cp:revision>4</cp:revision>
  <dc:subject/>
  <dc:title>7.6 Lever and Pulley Class Notes</dc:title>
</cp:coreProperties>
</file>